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7743-635E-49B4-B4DF-1F344DD08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8F91-986F-43D4-AD24-4B02ACF13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586-8BE2-4674-B46E-191FEBDC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72F-37D5-41A1-84C6-64C23715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CCDEB-B324-46ED-A07D-6C657988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2628D-14CC-484C-9242-C16A50E3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DD9AD-84D5-4042-A702-45B00DFA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0A0A7-A69F-4DF9-BED8-1895F18D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0D22F-9D91-4938-9B29-2762B849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FAFF1-5087-4E3E-9326-B4CE1F78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2A493-5299-400D-BE29-6A9900F5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08D90-B51B-4B69-BF94-123EB0B8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B9C84-3BD2-4038-9689-AEA40CDE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F92-D9F4-45A3-BC05-9910444C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8AC-2810-4842-8078-5CAE814E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67FC-A96A-4443-95F7-D82A5CC0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BBCE-D732-4617-96A0-A8B1D4BA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B9DA-A6FB-4D16-882F-15A43D78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E96C-19A4-4F75-8EBE-A1719DCD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DC9D-7C1F-4EDF-AC6D-70D61D0E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6E64-4E74-4A31-8129-ACD75BC3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7C24-135D-4785-821B-BC26C587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42F-7E14-4CF5-B29C-B52BC106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B31B-BF7E-4C3F-87A3-6E8690C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3539-E20A-4CB9-98E4-46BB5F81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384B-22D5-433C-B07B-4A36DAAD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0580-8FB9-4633-8D0C-6E5480A7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248E-52A2-46D5-99E1-74D38840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BD34B-A245-44A8-AE8C-FC6434B4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7A49-AEA8-4652-A65F-F28E96C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1498-A09E-48C5-BDDD-9C0D2D0B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4678-9266-45A8-A1F0-151DCA3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7D58-E771-49A0-BC21-D6D120A5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2A77-D204-4186-9102-19A630AD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91A8-C7D7-4F35-A4D5-281038C3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4488-43E1-4F57-9CA5-0726ACF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0A67-D0DD-4FF7-999E-AD4749F4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DB34-B7C9-4A37-A693-917EEB0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93E8-3F77-4B54-94F8-5ECB1F71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2CEA-404D-4BD7-A2BC-7513B6B5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6225E-8BC3-4FC4-8708-AE6B9A50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0C52-416F-4E05-9A32-50670C1A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D82F-2F66-45BE-BFCC-F2D0CAD2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5E6E-AF13-44D0-B409-44A0688E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F6F-69C4-4C0A-9E44-3321BF10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66BF3-F80A-47FA-9C19-506D3753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5CF3-9041-41F8-83D5-5E7409C7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B177-6D66-4A4D-B06D-9785481B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63762-3BDD-44FD-9C83-1871D8EB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184F-8329-46F1-B7DC-2179FB9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5D86-5560-4BEF-A191-0E342344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47A26-11EB-4D56-ABFE-0DCA6F4F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A5C29-39AA-4D90-A2D1-B8B0800D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E834-436E-40F3-9902-6F794ED5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183D-45E3-4180-A2BC-ED4EC105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F2B-ECCB-4B75-B360-6E799D0A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0A6D7-9794-4EFF-B56E-7580BDB9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1FF43-4E94-4A60-8AFD-2E7A4D93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F9B92-D550-4F6A-ADA1-9EF5B923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82CE9-37C1-4A75-A6B4-94708042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24E16-1AF5-475B-8471-AAAC54E8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D2D4-5387-44B8-8739-CE8F2A4C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9505-28C7-4078-9BAB-A7D1BB3B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2EF41-9B6F-4E8E-AB53-E3F5C42F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6A802-4544-481C-93EC-BCB0C8A5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F99A1-0993-4C7E-8D56-BB636CC6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8B9-F75D-4AD2-8583-E91DCCE5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793CF-4320-4D9B-927A-190B8506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55FD8-0B24-4849-B280-63AEE324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B0EFE-82FE-4396-BA02-A31F7B66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9CDB-49C0-4D34-AA85-23A7B6FF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9F14A-6EFB-4C6D-8C8F-88F0B947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F13F4-74E7-4773-87EC-E5E0C9DA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387AF-FDF2-4D84-9076-C5510A4D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B4BFA-8B0D-491C-B7BD-908426AC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72B5A-A3AB-42BA-B8C8-2BE0CAAF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949C6-B680-4EE3-B1C7-E80E15B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044-B4F3-4A87-9E7A-0DE6F31D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B82DA-C3C6-45EF-BB4E-D841350E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3C2D1-A7A2-4FA7-A8E8-60D28ACB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945E2-C2BA-41E7-A92F-E99CF27E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86514-3AAC-4421-A44A-3D702A68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17085-2DF4-4E75-871B-44C72437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1DA07-9844-427A-90EA-AC49C78B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2E842-C5C9-4E75-9488-C5D73522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EFFA-0E6E-416C-A336-37F7EA96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8AFF1-42D1-45D8-BF7B-88266C70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8B9C9-6DCF-4BF2-9274-A021A422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292-D9F1-41B4-9C15-0C5D575C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4A71F-2E9C-45EF-9126-BACA7024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380FD-C890-442E-9862-69A63995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12809-28B6-48C1-BF7C-273A8540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2A0E6-0785-4D20-A0CB-E7169769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9B18A-70FC-4F58-88E5-8F18AB26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31B34-8B44-4312-82AA-8C43901A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9A773-05FB-44A4-85CA-4706FF60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7B7E4-6970-40AD-806D-F29B22F8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6AF1E-896E-4957-8C6B-A81D3834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86A6A-E417-458D-A034-F2E00B5F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D61-BBB2-4293-B2E5-BE3A482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BA3DA-04D8-4CBC-9B5C-4CAAC6DA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1EB55-7AE1-4BA6-8439-F383BC94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12735-0439-4B42-8D69-EC64B8E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05BC4-5F30-4E91-8843-78FE5D84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8EB88-AFC4-4756-ACAB-95CA43FC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8F209-C72F-40F5-8027-FF165C00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02A9B-6EB9-41F1-8BB3-4C1AB781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3175F-88AC-4C72-BE6B-9F7FD02D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2D619-A753-45BE-996F-4DCB2AA1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D9567-DA45-44C9-9588-52CF6506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BB4A-7AF6-4D25-A8E5-6888393A32F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60FA-4AD1-4C81-B945-E4176EF4DCD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C088-491D-4630-BCC1-EE4FCD1C1A2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3EA0-E135-41B6-90E4-87E10A581BA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0B4A-629D-4A24-A04A-8A17CF8EF6D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6757-EF31-4FF3-A507-BB1EA6729A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C958-7094-45FA-8AF7-2247A63B36F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54CE-48AD-4F20-AB72-CB09C8F9A8B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FABF-2CBF-49A1-A918-69BE6A69D6B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706320" y="536400"/>
            <a:ext cx="7785360" cy="2737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35720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y Chelsea Hockenhul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2114640" y="-66600"/>
            <a:ext cx="4541760" cy="18288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571320" y="2357280"/>
            <a:ext cx="8001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Brad"/>
              </a:rPr>
              <a:t>I think that I did extremely well considering that I faced a lot o bumps (difficulties). I think that my house looks very similar to the original example that I had at first from the 3d warehouse on sketch up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33200" y="6480"/>
            <a:ext cx="4017960" cy="18288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00040" y="135684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Here  I am the very first steps to making my Roman Parthenon. All I have done is draw a rectangle and a circl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On the bottom picture I have drawn a couple of mini circles ready for me to push pull in to poles later on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Content Placeholder 5" descr="IMG000080.jpg"/>
          <p:cNvPicPr/>
          <p:nvPr/>
        </p:nvPicPr>
        <p:blipFill>
          <a:blip r:embed="rId2"/>
          <a:srcRect l="20633" t="33874" r="25405" b="0"/>
          <a:stretch/>
        </p:blipFill>
        <p:spPr>
          <a:xfrm>
            <a:off x="4357800" y="0"/>
            <a:ext cx="4786200" cy="3414600"/>
          </a:xfrm>
          <a:prstGeom prst="rect">
            <a:avLst/>
          </a:prstGeom>
          <a:ln w="0">
            <a:noFill/>
          </a:ln>
        </p:spPr>
      </p:pic>
      <p:pic>
        <p:nvPicPr>
          <p:cNvPr id="411" name="Content Placeholder 4" descr="IMG000081.jpg"/>
          <p:cNvPicPr/>
          <p:nvPr/>
        </p:nvPicPr>
        <p:blipFill>
          <a:blip r:embed="rId3"/>
          <a:srcRect l="5882" t="5890" r="0" b="31370"/>
          <a:stretch/>
        </p:blipFill>
        <p:spPr>
          <a:xfrm>
            <a:off x="3571920" y="3286080"/>
            <a:ext cx="5572080" cy="2500200"/>
          </a:xfrm>
          <a:prstGeom prst="rect">
            <a:avLst/>
          </a:prstGeom>
          <a:ln w="0">
            <a:noFill/>
          </a:ln>
        </p:spPr>
      </p:pic>
      <p:cxnSp>
        <p:nvCxnSpPr>
          <p:cNvPr id="412" name="Straight Arrow Connector 8"/>
          <p:cNvCxnSpPr/>
          <p:nvPr/>
        </p:nvCxnSpPr>
        <p:spPr>
          <a:xfrm flipV="1">
            <a:off x="2786040" y="4928760"/>
            <a:ext cx="1215360" cy="28656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13" name="Straight Arrow Connector 10"/>
          <p:cNvCxnSpPr/>
          <p:nvPr/>
        </p:nvCxnSpPr>
        <p:spPr>
          <a:xfrm flipV="1">
            <a:off x="3286080" y="2428560"/>
            <a:ext cx="929520" cy="35784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3151080" cy="18288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28760" y="142848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At the moment I am making the base for my Roman Parthenon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I have started by drawing a circle and push pulling it. Underneath it is a square, so that when it I make the whole cylinder wall shape I can put poles on it to make it look more effectiv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Content Placeholder 4" descr="IMG000069.jpg"/>
          <p:cNvPicPr/>
          <p:nvPr/>
        </p:nvPicPr>
        <p:blipFill>
          <a:blip r:embed="rId2"/>
          <a:srcRect l="25097" t="44583" r="16795" b="3260"/>
          <a:stretch/>
        </p:blipFill>
        <p:spPr>
          <a:xfrm>
            <a:off x="3571920" y="571680"/>
            <a:ext cx="5357880" cy="4857480"/>
          </a:xfrm>
          <a:prstGeom prst="rect">
            <a:avLst/>
          </a:prstGeom>
          <a:ln w="0">
            <a:noFill/>
          </a:ln>
        </p:spPr>
      </p:pic>
      <p:cxnSp>
        <p:nvCxnSpPr>
          <p:cNvPr id="418" name="Straight Arrow Connector 9"/>
          <p:cNvCxnSpPr/>
          <p:nvPr/>
        </p:nvCxnSpPr>
        <p:spPr>
          <a:xfrm flipV="1">
            <a:off x="3357720" y="2285640"/>
            <a:ext cx="1357920" cy="92952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19" name="Straight Arrow Connector 10"/>
          <p:cNvCxnSpPr/>
          <p:nvPr/>
        </p:nvCxnSpPr>
        <p:spPr>
          <a:xfrm flipV="1">
            <a:off x="3357720" y="4142520"/>
            <a:ext cx="2286720" cy="14364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311040" y="6480"/>
            <a:ext cx="2876760" cy="1828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28760" y="1499760"/>
            <a:ext cx="300816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Here I have finished all the different levels for the out side effect.  All that is left to be able to complete the outside main shape is a dome roof top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Content Placeholder 4" descr="IMG000072.jpg"/>
          <p:cNvPicPr/>
          <p:nvPr/>
        </p:nvPicPr>
        <p:blipFill>
          <a:blip r:embed="rId2"/>
          <a:srcRect l="26326" t="18929" r="19641" b="0"/>
          <a:stretch/>
        </p:blipFill>
        <p:spPr>
          <a:xfrm>
            <a:off x="4572000" y="247680"/>
            <a:ext cx="4286160" cy="5494320"/>
          </a:xfrm>
          <a:prstGeom prst="rect">
            <a:avLst/>
          </a:prstGeom>
          <a:ln w="0">
            <a:noFill/>
          </a:ln>
        </p:spPr>
      </p:pic>
      <p:cxnSp>
        <p:nvCxnSpPr>
          <p:cNvPr id="423" name="Straight Arrow Connector 6"/>
          <p:cNvCxnSpPr/>
          <p:nvPr/>
        </p:nvCxnSpPr>
        <p:spPr>
          <a:xfrm flipV="1">
            <a:off x="3571920" y="1999440"/>
            <a:ext cx="2000880" cy="142956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298440" y="6480"/>
            <a:ext cx="2981160" cy="18288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642600" y="1499760"/>
            <a:ext cx="2500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I have now added the last step to making the basic out side shape. The roof is called a dome roof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Content Placeholder 6" descr="IMG000087.jpg"/>
          <p:cNvPicPr/>
          <p:nvPr/>
        </p:nvPicPr>
        <p:blipFill>
          <a:blip r:embed="rId2"/>
          <a:srcRect l="19003" t="10220" r="21590" b="0"/>
          <a:stretch/>
        </p:blipFill>
        <p:spPr>
          <a:xfrm>
            <a:off x="4113360" y="500040"/>
            <a:ext cx="4538520" cy="5143680"/>
          </a:xfrm>
          <a:prstGeom prst="rect">
            <a:avLst/>
          </a:prstGeom>
          <a:ln w="0">
            <a:noFill/>
          </a:ln>
        </p:spPr>
      </p:pic>
      <p:cxnSp>
        <p:nvCxnSpPr>
          <p:cNvPr id="427" name="Straight Arrow Connector 8"/>
          <p:cNvCxnSpPr/>
          <p:nvPr/>
        </p:nvCxnSpPr>
        <p:spPr>
          <a:xfrm flipV="1">
            <a:off x="3000240" y="2071440"/>
            <a:ext cx="2286720" cy="135792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476280" y="-208080"/>
            <a:ext cx="2919240" cy="18288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213840" y="1071720"/>
            <a:ext cx="3714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I am about thee quarters away from finishing here. I have just drawn a rectangle at a suitable size and then I drew 1 pole and push/pulled it in the right corner. To make it easier for my self I clicked on the move/copy tool and held the ctrl button down and copied it to the left corner. After that I typped /7 and Sketch up automatically added ore rows for m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2"/>
          <a:srcRect l="5350" t="38017" r="1010" b="8480"/>
          <a:stretch/>
        </p:blipFill>
        <p:spPr>
          <a:xfrm>
            <a:off x="3929040" y="2143080"/>
            <a:ext cx="5000760" cy="2571840"/>
          </a:xfrm>
          <a:prstGeom prst="rect">
            <a:avLst/>
          </a:prstGeom>
          <a:ln w="0">
            <a:noFill/>
          </a:ln>
        </p:spPr>
      </p:pic>
      <p:cxnSp>
        <p:nvCxnSpPr>
          <p:cNvPr id="431" name="Straight Arrow Connector 6"/>
          <p:cNvCxnSpPr/>
          <p:nvPr/>
        </p:nvCxnSpPr>
        <p:spPr>
          <a:xfrm flipV="1">
            <a:off x="3929040" y="4571640"/>
            <a:ext cx="4572720" cy="100080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32" name="Straight Arrow Connector 7"/>
          <p:cNvCxnSpPr/>
          <p:nvPr/>
        </p:nvCxnSpPr>
        <p:spPr>
          <a:xfrm flipV="1">
            <a:off x="3285720" y="4571280"/>
            <a:ext cx="786600" cy="50076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542880" y="6480"/>
            <a:ext cx="2859120" cy="1828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28760" y="1428480"/>
            <a:ext cx="30081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Here I followed a tutorial to help me build the triangle roof part of the hous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2"/>
          <a:srcRect l="5291" t="15472" r="1069" b="60991"/>
          <a:stretch/>
        </p:blipFill>
        <p:spPr>
          <a:xfrm>
            <a:off x="3857760" y="1571760"/>
            <a:ext cx="5000400" cy="292896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5"/>
          <p:cNvCxnSpPr/>
          <p:nvPr/>
        </p:nvCxnSpPr>
        <p:spPr>
          <a:xfrm>
            <a:off x="856800" y="3071880"/>
            <a:ext cx="4715640" cy="28656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542880" y="79200"/>
            <a:ext cx="2925720" cy="1822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28760" y="1428840"/>
            <a:ext cx="3008160" cy="29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The final step that  have done is add the colour. I also went on to the  3d warehouse and got 3 trees and a Roman man to make my house look more effectiv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rcRect l="22680" t="17608" r="10435" b="11759"/>
          <a:stretch/>
        </p:blipFill>
        <p:spPr>
          <a:xfrm>
            <a:off x="3641760" y="785880"/>
            <a:ext cx="53038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440" name="Straight Arrow Connector 5"/>
          <p:cNvCxnSpPr/>
          <p:nvPr/>
        </p:nvCxnSpPr>
        <p:spPr>
          <a:xfrm>
            <a:off x="3071520" y="1142640"/>
            <a:ext cx="2215080" cy="85788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41" name="Straight Arrow Connector 6"/>
          <p:cNvCxnSpPr/>
          <p:nvPr/>
        </p:nvCxnSpPr>
        <p:spPr>
          <a:xfrm flipV="1">
            <a:off x="2357280" y="3142440"/>
            <a:ext cx="4858560" cy="71532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42" name="Straight Arrow Connector 7"/>
          <p:cNvCxnSpPr/>
          <p:nvPr/>
        </p:nvCxnSpPr>
        <p:spPr>
          <a:xfrm flipV="1">
            <a:off x="1928520" y="3928320"/>
            <a:ext cx="6429960" cy="21492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9028080" cy="1854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"/>
          <p:cNvPicPr/>
          <p:nvPr/>
        </p:nvPicPr>
        <p:blipFill>
          <a:blip r:embed="rId2"/>
          <a:srcRect l="33398" t="15000" r="15038" b="6250"/>
          <a:stretch/>
        </p:blipFill>
        <p:spPr>
          <a:xfrm>
            <a:off x="214200" y="1643040"/>
            <a:ext cx="4041720" cy="3857760"/>
          </a:xfrm>
          <a:prstGeom prst="rect">
            <a:avLst/>
          </a:prstGeom>
          <a:ln w="0">
            <a:noFill/>
          </a:ln>
        </p:spPr>
      </p:pic>
      <p:sp>
        <p:nvSpPr>
          <p:cNvPr id="445" name="TextBox 5"/>
          <p:cNvSpPr/>
          <p:nvPr/>
        </p:nvSpPr>
        <p:spPr>
          <a:xfrm>
            <a:off x="785880" y="58579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7"/>
          <p:cNvSpPr/>
          <p:nvPr/>
        </p:nvSpPr>
        <p:spPr>
          <a:xfrm>
            <a:off x="5572080" y="58579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"/>
              </a:rPr>
              <a:t>MY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3"/>
          <a:srcRect l="23634" t="20938" r="10742" b="17187"/>
          <a:stretch/>
        </p:blipFill>
        <p:spPr>
          <a:xfrm>
            <a:off x="4643280" y="1643040"/>
            <a:ext cx="4264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3:06:27Z</dcterms:created>
  <dc:creator> </dc:creator>
  <dc:description/>
  <dc:language>en-US</dc:language>
  <cp:lastModifiedBy> </cp:lastModifiedBy>
  <dcterms:modified xsi:type="dcterms:W3CDTF">2009-09-04T19:51:08Z</dcterms:modified>
  <cp:revision>22</cp:revision>
  <dc:subject/>
  <dc:title>Roman Parthenon steps</dc:title>
</cp:coreProperties>
</file>